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8BD-9566-46C9-86AE-239542A9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A1B-A12B-4362-930C-E1B1FC86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BAC-57D9-49C7-AEEF-3B39CFB0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796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371120"/>
            <a:ext cx="29185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CEB-97E1-4F5B-99F6-E3337ADF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FB6-97CC-4CB3-A53E-07F25B0C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E82-09BD-48DA-9A7B-90BD1D8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F66-6D6E-4A9B-B4CB-4707985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9241-5FD9-4292-B919-D774C51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661-CE25-4CD4-8852-4E2EE8F3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133-3EF2-4AF8-B19C-D1CE21A4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37112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3B8-99FE-446F-9FD8-F67C53C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7960"/>
            <a:ext cx="44233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1120"/>
            <a:ext cx="90644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BB0-6608-468C-81BC-437E82F7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02061-98AC-430A-83F0-F5B8A90E49C7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ear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car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too%20many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ater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om%2013%20fin.mp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e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av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old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ark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tmp/home/.config/libreoffice/4/user/gallery/head.mp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noise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ain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rats.mp3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y dear Joh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151600" y="2597040"/>
            <a:ext cx="442584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151600" y="2840040"/>
            <a:ext cx="4425840" cy="28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151600" y="2935440"/>
            <a:ext cx="4425840" cy="26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ots of love from Mom and Dad,X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08160" y="1768320"/>
            <a:ext cx="766296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151600" y="2881440"/>
            <a:ext cx="4425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151600" y="2879640"/>
            <a:ext cx="4425840" cy="27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151600" y="2238480"/>
            <a:ext cx="442584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151600" y="2274840"/>
            <a:ext cx="4425840" cy="39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91160" y="1768320"/>
            <a:ext cx="3546360" cy="4989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0720" y="251928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151600" y="2658960"/>
            <a:ext cx="4425840" cy="32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646600" y="1768320"/>
            <a:ext cx="343692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atch-up with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822400"/>
            <a:ext cx="4425840" cy="288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151600" y="1936800"/>
            <a:ext cx="4425840" cy="465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1T12:30:52Z</dcterms:created>
  <dc:creator>dominique  camier</dc:creator>
  <dc:description/>
  <dc:language>en-US</dc:language>
  <cp:lastModifiedBy>dominique  camier</cp:lastModifiedBy>
  <dcterms:modified xsi:type="dcterms:W3CDTF">2014-02-01T13:02:24Z</dcterms:modified>
  <cp:revision>15</cp:revision>
  <dc:subject/>
  <dc:title/>
</cp:coreProperties>
</file>